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9864-972A-4E51-BCA3-12D83F9E2C7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экологически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EF35-8E96-4A50-B2FD-FDC90F400B6A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иклад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вопросы антропогенного преобразования экосистем и создание новых, предотвращения их разрушения, разработки принципов рационального природо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жене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слов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2A47-B06E-4519-9294-B6DDE6EC24B5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посе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условия существования людей в населенных пунктах различных типов и разм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б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тро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у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EF45-2144-419F-ADF3-86BBB18F0A72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куль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жизнь человека в социально-культурной сре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д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CB2D-BEF6-44D4-88E7-A261B84AC7BE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…сумма знаний, относящихся к экономике природы: изучение всей совокупности взаимоотношений животного с окружающей его средой, как органической, как и неорганической, и прежде всего дружественных или враждебных отношений с теми животными и растениями, с которыми он прямо или косвенно вступает в контакт. Одним словом, экология – это изучение всех сложных взаимоотношений, которые Дарвин назвал условиями, порождающими борьбу за существ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.Геккель, 186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4AED-0F41-42D9-BCBD-8A30ADD0B483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(греческое ойкос – дом, жилище, родина + греческое логос – понятие, учение) – область знания, изучающая взаимоотношения организмов и их сообществ с окружающей средой (в том числе и с другими организмами и сообществами). (Н.Ф.Реймерс, Краткий словарь биологических терминов: Кн. Для учителя.-2-е изд..-М.: Просвещение, 1995.- с.3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– область знания, рассматривающая различные аспекты взаимоотношений организмов (в том числе и человека), их сообществ с окружающей средой. (А.В.Миронов, Преподавание экологии в школе/М.: Гуманитар. Изд. Центр ВЛАДОС, 2004.-с.22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ботах В.И. Панова экология рассматривается как соответствующая область биологической науки, как междисциплинарный подход к изучению экосистем планетарного масштаба, как мировоззренческая пози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вящая своей целью сохранение  жизни на Земл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59CC-0B8B-40DD-8E6A-35AF3C7AFFE5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систематически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 взаимосвязи организмов с окружающей средой в соответствии с крупнейшими систематическими категор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амфиб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0D30-9DD4-4D1B-8EC0-C046586FFE82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иерархии жив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ндоэколог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я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клеток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органов и и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кзоэколог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осо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оп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ооб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7A78-56DA-4A23-8AC2-3187637B43AF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акториаль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 влияние на организмы факторов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F69E-7255-463B-BF36-7F597233B58E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сред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 взаимоотношения организмов и их сообществ со средой по основным сферам жизни и по ландшафтным подразде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тун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860E-DF0B-4831-9B9C-13AA5E434910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нцептуальная и эксперименталь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общие экологические закономер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ая эколог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8FD8-AFB5-45AC-B9D1-3F918AD59503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роно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экологические процессы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он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е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е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8FE2-911E-4D96-98D2-13E5DDA71910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672-DFB7-4B98-91BC-5AC9628D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A63-47E0-4447-B304-46329A41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70F7-C6D4-43B3-AAAC-ACD92845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665-DA0E-40F8-A303-EF81267C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34C0-9028-4860-AD11-892FD27E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C6B8-DE21-4443-B9FD-6C2DDF83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322E-27EE-4C83-A8B1-6D648952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8078-6754-4F94-B5DC-1C2CCA1B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7DC0-E51D-45ED-AF88-C5FBF569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DB26-8A6A-4FD8-9F94-BD875451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F0FA-C7D4-4445-9736-675341C1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383-A800-4B7F-9C2C-AEF60F49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6D26-4D19-45AA-AD83-EE95FB31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AEEF-22CC-4608-A9F5-C837D21A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E5AE-8B16-46A3-B34F-E6B37AA6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F6D9-3F7C-4AEB-8F48-765CF07B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534E-DAD6-4862-B2F6-3E070802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D781-9F5D-4D5D-BBDC-5578F39B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17B-B745-443F-868F-C2E0919E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AD5-244F-4C92-B639-C49ACC35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CE8A-85D9-4B11-9836-9FFC4037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036A-F8AB-48A6-94A5-50BC762C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199A-3AFD-48FB-AF8D-1D28194E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0E2-6A16-4666-B6FF-4794EBD0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75C4-F7ED-4489-9E96-FBC5A87045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3C0C-AD85-4E11-A34C-2C94A23C07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Структура экологических знаний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6" name="Picture 23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553080" cy="33145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человека и социальная экология</a:t>
            </a:r>
            <a:r>
              <a:rPr b="1" i="1" lang="ru-RU" sz="4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/>
          <a:stretch/>
        </p:blipFill>
        <p:spPr>
          <a:xfrm>
            <a:off x="6372360" y="2421000"/>
            <a:ext cx="1326960" cy="2022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574560" y="198900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учает взаимоотношения человека с окружающей средо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24000" y="2625840"/>
            <a:ext cx="4535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индивид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репродуктивн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пуляционная экология человек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111640" y="4508640"/>
            <a:ext cx="403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личност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емь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оциальн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"/>
          <p:cNvPicPr/>
          <p:nvPr/>
        </p:nvPicPr>
        <p:blipFill>
          <a:blip r:embed="rId2"/>
          <a:stretch/>
        </p:blipFill>
        <p:spPr>
          <a:xfrm>
            <a:off x="1258920" y="3860640"/>
            <a:ext cx="1898640" cy="2376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Прикладная 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39640" y="205092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учает вопросы антропогенного преобразования экосистем и создание новых, предотвращения их разрушения, разработки принципов рационального природопользован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95280" y="3417840"/>
            <a:ext cx="590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мическ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женер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мыслов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дицин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льскохозяйственн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02"/>
          <p:cNvPicPr/>
          <p:nvPr/>
        </p:nvPicPr>
        <p:blipFill>
          <a:blip r:embed="rId1"/>
          <a:stretch/>
        </p:blipFill>
        <p:spPr>
          <a:xfrm>
            <a:off x="4788000" y="3141720"/>
            <a:ext cx="3671640" cy="2547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поселений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87280" y="1916280"/>
            <a:ext cx="650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11280" y="191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условия существования людей в населенных пунктах различных типов и размеров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500720" y="3645000"/>
            <a:ext cx="439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рб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строительств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хитектур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4176720" cy="31687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культур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01480" y="21337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жизнь человека в социально-культурной среде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24000" y="4005360"/>
            <a:ext cx="40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культур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дух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"/>
          <p:cNvPicPr/>
          <p:nvPr/>
        </p:nvPicPr>
        <p:blipFill>
          <a:blip r:embed="rId1"/>
          <a:stretch/>
        </p:blipFill>
        <p:spPr>
          <a:xfrm>
            <a:off x="3924360" y="2997360"/>
            <a:ext cx="4754520" cy="31683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24000" y="2205000"/>
            <a:ext cx="84978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…сумма знаний, относящихся к экономике природы: изучение всей совокупности взаимоотношений животного с окружающей его средой, как органической, как и неорганической, и прежде всего дружественных или враждебных отношений с теми животными и растениями, с которыми он прямо или косвенно вступает в контакт. Одним словом, экология – это изучение всех сложных взаимоотношений, которые Дарвин назвал условиями, порождающими борьбу за существование»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.Геккель, 1866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66"/>
                </a:solidFill>
                <a:latin typeface="Arial Black"/>
              </a:rPr>
              <a:t>Что такое экология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24000" y="260280"/>
            <a:ext cx="475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ология (греческое ойкос – дом, жилище, родина + греческое логос – понятие, учение) – область знания, изучающая взаимоотношения организмов и их сообществ с окружающей средой (в том числе и с другими организмами и сообществами). (Н.Ф.Реймерс, Краткий словарь биологических терминов: Кн. Для учителя.-2-е изд..-М.: Просвещение, 1995.- с.351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076720" y="260280"/>
            <a:ext cx="374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ология – область знания, рассматривающая различные аспекты взаимоотношений организмов (в том числе и человека), их сообществ с окружающей средой. (А.В.Миронов, Преподавание экологии в школе/М.: Гуманитар. Изд. Центр ВЛАДОС, 2004.-с.221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4221000"/>
            <a:ext cx="856908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работах В.И. Панова экология рассматривается как соответствующая область биологической науки, как междисциплинарный подход к изучению экосистем планетарного масштаба, как мировоззренческая позиция,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авящая своей целью сохранение  жизни на Земле.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систематических групп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6" name="Picture 13" descr="GBI_1C37_006Nf"/>
          <p:cNvPicPr/>
          <p:nvPr/>
        </p:nvPicPr>
        <p:blipFill>
          <a:blip r:embed="rId1"/>
          <a:stretch/>
        </p:blipFill>
        <p:spPr>
          <a:xfrm>
            <a:off x="250920" y="3068640"/>
            <a:ext cx="2736720" cy="2239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611280" y="184464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матривает взаимосвязи организмов с окружающей средой в соответствии с крупнейшими систематическими категориям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219640" y="3417840"/>
            <a:ext cx="345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амфиби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птиц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насекомых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j0185197"/>
          <p:cNvPicPr/>
          <p:nvPr/>
        </p:nvPicPr>
        <p:blipFill>
          <a:blip r:embed="rId2"/>
          <a:stretch/>
        </p:blipFill>
        <p:spPr>
          <a:xfrm>
            <a:off x="2124000" y="4149720"/>
            <a:ext cx="2879640" cy="21636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иерархии живого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Line 5"/>
          <p:cNvSpPr/>
          <p:nvPr/>
        </p:nvSpPr>
        <p:spPr>
          <a:xfrm flipH="1">
            <a:off x="1618920" y="1700280"/>
            <a:ext cx="1368360" cy="79200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6084720" y="1700280"/>
            <a:ext cx="1656000" cy="72072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24000" y="2625840"/>
            <a:ext cx="273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50920" y="2565360"/>
            <a:ext cx="42498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нд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лекулярная экология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клеток и ткане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органов и их систем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003640" y="2492280"/>
            <a:ext cx="396108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з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особ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популя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ообществ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_genome"/>
          <p:cNvPicPr/>
          <p:nvPr/>
        </p:nvPicPr>
        <p:blipFill>
          <a:blip r:embed="rId1"/>
          <a:stretch/>
        </p:blipFill>
        <p:spPr>
          <a:xfrm>
            <a:off x="1187280" y="4394160"/>
            <a:ext cx="6480360" cy="18986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Факториальная 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5640" y="21938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следует влияние на организмы факторов сред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9640" y="3573360"/>
            <a:ext cx="396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з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им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13080" cy="367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сред жизни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95280" y="1916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матривает взаимоотношения организмов и их сообществ со средой по основным сферам жизни и по ландшафтным подразделениям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508720" y="3213000"/>
            <a:ext cx="3311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эр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идр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т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тундр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пустын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5040000" cy="29242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5331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66"/>
                </a:solidFill>
                <a:latin typeface="Arial"/>
              </a:rPr>
              <a:t>Концептуальная и экспериментальная экология</a:t>
            </a:r>
            <a:r>
              <a:rPr b="1" i="1" lang="ru-RU" sz="4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68360" y="205092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общие экологические закономерност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24000" y="3573360"/>
            <a:ext cx="4105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алит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оретическая экология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нам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2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4392360" cy="29401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Хроно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826920" y="20509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экологические процессы во времен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716360" y="3500280"/>
            <a:ext cx="40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волюцион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хе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ле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9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4465440" cy="2620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9:04:01Z</dcterms:created>
  <dc:creator>Greek</dc:creator>
  <dc:description>ppt.3dn.ru</dc:description>
  <dc:language>en-US</dc:language>
  <cp:lastModifiedBy>LEGION</cp:lastModifiedBy>
  <dcterms:modified xsi:type="dcterms:W3CDTF">2015-05-06T08:51:51Z</dcterms:modified>
  <cp:revision>10</cp:revision>
  <dc:subject/>
  <dc:title>Проблемы эк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5000000000001024140</vt:lpwstr>
  </property>
</Properties>
</file>